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DAF9-A124-431E-AD80-045057AC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18B0-4BDA-4FDB-99CE-FA5466F9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D69C-9E65-40EE-BAF9-00E9273E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30D-9FC4-40E8-8FC6-77A68075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CB27-4A71-4B4C-89BA-073E4315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3D36-32F2-4AE6-9491-F36D3CAB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7D52-AC6A-4C97-83BA-AE79B624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A1DD-3A1F-4D53-ADC3-62D3AB99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3F9A-7B85-4FA6-95C0-ADF3671A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B68B-7E8F-475C-950F-091AACEF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674E-9312-4A05-8032-5AE27BF2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0D44-5118-44EC-AF76-2383D2CF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FB42-8DF6-40B0-AC2E-A80E47469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старший преподават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D651-720D-4378-BE24-901F973D1F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Служба DNS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представляет собой иерархическую структуру серверов, где каждый сервер отвечает за определенную зону - т.е. свою часть дерева доменных имен, хранит соответствующие базы данных и отвечает на запросы. При этом вышестоящие по дереву серверы имеют информацию об адресах нижестоящих серверов, что обеспечивает связность дер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F762-B411-4E5E-AB5B-D2C0F30C5C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i="1" lang="en-US" sz="2800" spc="-1" strike="noStrike">
                <a:solidFill>
                  <a:srgbClr val="3333ff"/>
                </a:solidFill>
                <a:latin typeface="Tahoma"/>
              </a:rPr>
              <a:t>Различие между доменом и зон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Домен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это поддерево дерева доменных им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Зон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это часть дерева, за которую отвечает тот или иной DNS-серв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AB9F-F455-4E86-AE1F-4A463B46E1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При ручном конфигурировании DNS-клиента указываю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имя хо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домен, в котором находится данный хос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IP-адрес сервера DNS, обслуживающего этот дом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Конфигурирование клиента 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87280" y="1376280"/>
            <a:ext cx="3990960" cy="4800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4518-8013-4850-B8BF-360438ED87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0" t="7559" r="0" b="0"/>
          <a:stretch/>
        </p:blipFill>
        <p:spPr>
          <a:xfrm>
            <a:off x="5327640" y="1376280"/>
            <a:ext cx="3495600" cy="3962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58920" y="0"/>
            <a:ext cx="84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Ручное конфигурирование.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887640" y="1989000"/>
            <a:ext cx="3848400" cy="4334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971640" y="2529000"/>
            <a:ext cx="31147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93D3-A0EC-45E4-A1D1-B2C36D74F8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1640" y="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Ручное конфигурирование. Un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Unix имя домена и адрес DNS-сервера указываются в файле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resolv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форма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 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omain vvsu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 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ameserver 212.16.195.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дрес сервера указывается исключительно в числовом ви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D125-3713-4FDD-AA72-3A4531D91E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зменения в базу данных DNS могут быть внесены только на первичном серве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бслуживания клиентских запросов первичный и вторичные серверы идентичны, все они выдают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вторитативны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тветы. Рекомендуется, чтобы первичный и вторичные серверы находились в разных сетях - для увеличения надежности обработки запросов. Серверы DNS не обязаны находиться в том домене, за который они отвеч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FCE8-25E8-4BAA-8337-06C6F4B959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братная зона предназначен для проведения обратного DNS-преобразования, т.е. "IP-адрес  в доменное имя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Технология этого преобразования, использующего специальный дом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        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n-addr.arpa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 учетом, что всякое DNS-преобразование представляет собой поиск узла в дереве и возврат информации, связанной с этим уз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Обратная з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EC93-E3D0-4FCC-8A44-5E9546DA97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ространство IP-адресов, записанных в десятично-точечной нотации, также представляет собой дерево (точнее, лес из 256 деревье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тличие от иерархии доменных имен од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в доменном имени узлы, более близкие к корню, записываются справа, а в IP-адресе - сл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9EF4-BE74-4737-AF9D-6C35E0044A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33760" y="318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in-addr" descr="Fig 2.2"/>
          <p:cNvPicPr/>
          <p:nvPr/>
        </p:nvPicPr>
        <p:blipFill>
          <a:blip r:embed=""/>
          <a:stretch/>
        </p:blipFill>
        <p:spPr>
          <a:xfrm>
            <a:off x="358920" y="907920"/>
            <a:ext cx="8426160" cy="5364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2304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ahoma"/>
              </a:rPr>
              <a:t>Прямое и обратное преобразование в системе D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 3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DNS – доменная система им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AB15-75D7-4B7D-BEEE-DB0A48ED58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оздание поддомена может потребоваться для удобства управления сетью организации со сложной структурой или если поддомен будет принадлежать другой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озданным поддоменом может управлять тот же сервер, либо полномочия по управлению поддоменом могут быть переданы другому серве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Поддо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выполняется DNS-запро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Чем зона DNS отличается от доме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еречислите конфигурационные файлы, необходимые для первичного сервера зо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разбить сеть класса С на поддомены? Сформулируйте основную проблему этой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Сформулируйте, как обратное DNS преобразование технически сводится к прям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lbitz and Liu. DNS and BIND. – O’Reily and Associate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1) Имена и адр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2) Служба 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3) Конфигурирование клиента 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4) Другие службы распознавания имен и порядок их использования хо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5) Порядок выполнения DNS-за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6) Программа nsl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AB95-C30E-4F5B-948E-F8A9EE28BD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7280" y="1198440"/>
            <a:ext cx="860436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мимо IP-адресов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хосты идентифицируются доменными именами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более легкими для запоминания и отражающими логическое структурирование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оменное имя состоит из символьных полей, разделенных то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C29E-D3D4-4014-9F09-F8D9E29D79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Крайнее правое поле обозначает домен верхнего уровня, далее, справа налево, следуют поддомены в порядке иерархической вложенности, крайнее левое поле обозначает имя хо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3333ff"/>
                </a:solidFill>
                <a:latin typeface="Tahoma"/>
              </a:rPr>
              <a:t>crypt.iae.nsk.su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хост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cryp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домен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a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торый находится внутри домен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sk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торый в свою очередь находится внутри домен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su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D16A-2194-4D4B-8135-9727BA3741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1780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dom-tree" descr="Fig 2.1"/>
          <p:cNvPicPr/>
          <p:nvPr/>
        </p:nvPicPr>
        <p:blipFill>
          <a:blip r:embed="rId1"/>
          <a:stretch/>
        </p:blipFill>
        <p:spPr>
          <a:xfrm>
            <a:off x="287280" y="1560600"/>
            <a:ext cx="8532720" cy="4460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58920" y="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Дерево доменных и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3A19-8EB8-41C7-B82C-4796A56AA1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Корнем дерева является домен "." (точка). Полное -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абсолютно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л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олностью определенно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fully qualified domain 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доменное имя заканчивается точкой, обозначающей корень доменного дерева, но часто эта завершающая точка опуск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оменами верхнего уровня выступают двухбуквенные национальные домены или трехбуквенные домены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com, edu, org, net, gov, int, m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7600-2913-44DD-8D09-41A293D7C1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мя домена (например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vvsu.ru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 может выступать также как и имя узла, т.е. быть указателем на связанную с этим именем информ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Например, такой информацией может бы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P-адре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6919-EB56-457B-AF93-05D9BA7D85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етевое программное обеспечение, маршрутизаторы и другая сетевая аппаратура работают c IP-адресами. Преобразования "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доменное имя в IP 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" ("прямое")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выполняются службой DNS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путем поиска в доменном дереве нужного имени и извлечения связанной с этим именем информации требуемого типа (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IP-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23:31Z</dcterms:modified>
  <cp:revision>178</cp:revision>
  <dc:subject/>
  <dc:title>Lecture Template </dc:title>
</cp:coreProperties>
</file>